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2395-9072-414F-843C-3840EA7E6CF1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D64-BB86-49D7-9117-6F356299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CAD-98C3-41BF-878D-FF2D82C9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C1C-A02B-4FD1-936A-DE3A1039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22E-A7CA-4253-A114-4039A308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85C-5C41-4C79-B2BD-02E9B6D7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1C1-8B0E-4BBB-8732-CD6DDAB3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934-D2B8-4CF3-A076-59CD7A90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188-1A11-42D6-A3CB-08873BC8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294-C1EE-4AFB-9AB4-70BA5F89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0E9-7EF4-463F-B931-7BC63242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2A9-44A6-4475-AE85-8BB82858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0A0-751D-4124-844B-F9D3C451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716E-B153-40F8-B33E-9544B56A7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re is a connectivity to access router/gatewa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if fail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register if do not receive the success notification from the remote hu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ag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553080" y="6415560"/>
            <a:ext cx="213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941640" y="1066680"/>
            <a:ext cx="275760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781680" y="1295280"/>
            <a:ext cx="1828800" cy="53352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5"/>
          <p:cNvSpPr/>
          <p:nvPr/>
        </p:nvSpPr>
        <p:spPr>
          <a:xfrm flipV="1">
            <a:off x="4583160" y="1598040"/>
            <a:ext cx="2220840" cy="122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33" y="0"/>
                </a:moveTo>
                <a:lnTo>
                  <a:pt x="0" y="0"/>
                </a:lnTo>
                <a:lnTo>
                  <a:pt x="0" y="21600"/>
                </a:lnTo>
                <a:lnTo>
                  <a:pt x="21600" y="21600"/>
                </a:lnTo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1280" y="2754360"/>
            <a:ext cx="1828800" cy="64620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648320" y="4037040"/>
            <a:ext cx="0" cy="144792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1141560" y="5562720"/>
            <a:ext cx="849240" cy="609480"/>
            <a:chOff x="1141560" y="5562720"/>
            <a:chExt cx="849240" cy="609480"/>
          </a:xfrm>
        </p:grpSpPr>
        <p:sp>
          <p:nvSpPr>
            <p:cNvPr id="58" name="AutoShape 9"/>
            <p:cNvSpPr/>
            <p:nvPr/>
          </p:nvSpPr>
          <p:spPr>
            <a:xfrm>
              <a:off x="1141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1262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4189320" y="5562720"/>
            <a:ext cx="849240" cy="609480"/>
            <a:chOff x="4189320" y="5562720"/>
            <a:chExt cx="849240" cy="609480"/>
          </a:xfrm>
        </p:grpSpPr>
        <p:sp>
          <p:nvSpPr>
            <p:cNvPr id="61" name="AutoShape 12"/>
            <p:cNvSpPr/>
            <p:nvPr/>
          </p:nvSpPr>
          <p:spPr>
            <a:xfrm>
              <a:off x="418932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431064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4"/>
          <p:cNvGrpSpPr/>
          <p:nvPr/>
        </p:nvGrpSpPr>
        <p:grpSpPr>
          <a:xfrm>
            <a:off x="6856560" y="5562720"/>
            <a:ext cx="849240" cy="609480"/>
            <a:chOff x="6856560" y="5562720"/>
            <a:chExt cx="849240" cy="609480"/>
          </a:xfrm>
        </p:grpSpPr>
        <p:sp>
          <p:nvSpPr>
            <p:cNvPr id="64" name="AutoShape 15"/>
            <p:cNvSpPr/>
            <p:nvPr/>
          </p:nvSpPr>
          <p:spPr>
            <a:xfrm>
              <a:off x="6856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6977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Line 17"/>
          <p:cNvSpPr/>
          <p:nvPr/>
        </p:nvSpPr>
        <p:spPr>
          <a:xfrm flipH="1" flipV="1">
            <a:off x="5334120" y="4037040"/>
            <a:ext cx="16761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 flipV="1">
            <a:off x="1839960" y="4037040"/>
            <a:ext cx="18939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3504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429000" y="4800600"/>
            <a:ext cx="220968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743200" y="3668760"/>
            <a:ext cx="323856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586728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819520" y="1868400"/>
            <a:ext cx="3581280" cy="5490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562720" y="4800600"/>
            <a:ext cx="533160" cy="9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5" y="0"/>
                  <a:pt x="10800" y="434"/>
                  <a:pt x="10800" y="969"/>
                </a:cubicBezTo>
                <a:lnTo>
                  <a:pt x="10800" y="9831"/>
                </a:lnTo>
                <a:cubicBezTo>
                  <a:pt x="10800" y="10366"/>
                  <a:pt x="15635" y="10800"/>
                  <a:pt x="21600" y="10800"/>
                </a:cubicBezTo>
                <a:cubicBezTo>
                  <a:pt x="15635" y="10800"/>
                  <a:pt x="10800" y="11234"/>
                  <a:pt x="10800" y="11769"/>
                </a:cubicBezTo>
                <a:lnTo>
                  <a:pt x="10800" y="20631"/>
                </a:lnTo>
                <a:cubicBezTo>
                  <a:pt x="10800" y="21166"/>
                  <a:pt x="5965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fte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prefix registration for prefix &lt;P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“/localhost”.isPrefixOf(&lt;P&gt;) or no connection to gateway hu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keys, namespaces) &lt;- enumerate keys NRD ow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each key defines “namespace” it u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we define the following convention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namespace:  /&lt;..1..&gt;/&lt;..2..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&lt;KEY&gt;, &lt;PREFIX&gt;) &lt;- longest prefix match on key namespaces for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if nothing found, 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&lt;PREIFX&gt; already regist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end localhop registration fo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ign with &lt;KE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chedule registration refresh for &lt;PREFIX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add &lt;PREFIX&gt; to the registered prefix se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60E1-C29C-4AEF-9654-2D48121B73A1}" type="slidenum"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whether connected to hu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ill rely on naming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localhop/&lt;site&gt;/nf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ndn/edu/ucl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org/caid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“/localhop/&lt;site&gt;/nfd” route exists in RIB, then we are connected to one or more hu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1: only 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ly one hub or requires broadcast strate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2: all vari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plicit name of the hub in the nam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tries regist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ically with ndn-auto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ding remote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found /localhop/&lt;site&gt;/nfd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registration for prefix &lt;P&gt; is in progress for localhop entry &lt;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/localhop/&lt;site&gt;/nfd/rib/register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rror or timeout (4s), r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 5 retries (configurable para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Only /localhop/nfd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 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localhos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isPrefixOf(&lt;P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Afanasyev</cp:lastModifiedBy>
  <dcterms:modified xsi:type="dcterms:W3CDTF">2014-10-20T14:35:19Z</dcterms:modified>
  <cp:revision>15</cp:revision>
  <dc:subject/>
  <dc:title>Remote Prefix Registration</dc:title>
</cp:coreProperties>
</file>